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9EAB-71C7-4BC0-980C-3DFAFCCB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B54F-6371-4691-8DBE-B01F8ECE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4873-5B7A-4285-A991-A687F77B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2082-0554-4C23-A161-09E066B8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1F93B-9176-4A3E-9859-62BCC22A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D3910-F394-4259-844C-DA685F60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A6944-FE8F-48A6-8B88-C3D1B88E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E4901-6D33-436F-8FE2-F2EEC998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32993-E0E0-46F0-B8F7-829A2571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65E7E-C1CB-4A05-8595-4EE399D0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77A71-FC9A-4C6B-8ED0-864B6A47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A4F1-66A2-4A24-8F5F-4CBE4456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5B754-7CF6-4385-A16A-CED45A90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F4210-2A26-4D50-88EF-68B1B092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8B776-FA47-4C1D-AC14-9AF70C38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1310C-7262-45BD-8753-33B26306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12DF5-92DD-46E9-A903-988E8C53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00D-61ED-4196-BA7E-9470DEA6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8C4-9617-464F-94EF-93B1424C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E3BE-BDB0-4E5F-BF09-4F75305A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2D7-1D33-4743-89D0-CDE31AFE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F3B-C532-436F-9F29-D4C1EC16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F9E8-2B91-4E38-94EB-6150EA63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36C-58BE-4C71-9567-BEDC2746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B950-B839-4688-B30E-F908915C0D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7F20-32E7-44E2-8B2D-88D32D3D5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dri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cary Hallow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t looked like an ordinary pumpkin but it wasn’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were millions of ghosts inside and on Halloween all of them will come o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038480" y="990720"/>
            <a:ext cx="144792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971800" y="2971800"/>
            <a:ext cx="14986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4648320" y="3276720"/>
          <a:ext cx="304560" cy="30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3276720"/>
                    <a:ext cx="304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d wake up the zombie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the vampires and all of them will haunt yo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086600" y="228600"/>
            <a:ext cx="1600200" cy="1447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83908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124080" y="2666880"/>
            <a:ext cx="1967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54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t if you dress up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scare the ghost away and if you carve a pumpk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1803600" cy="1805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038480" y="2514600"/>
            <a:ext cx="10670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d put it on your porch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vampires will go away and if you pull of the zombies legs and throw him back in his grave the will never come ba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End HA! HA! HA 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6:11:19Z</dcterms:created>
  <dc:creator>student</dc:creator>
  <dc:description/>
  <dc:language>en-US</dc:language>
  <cp:lastModifiedBy>student</cp:lastModifiedBy>
  <dcterms:modified xsi:type="dcterms:W3CDTF">2010-10-25T18:24:00Z</dcterms:modified>
  <cp:revision>12</cp:revision>
  <dc:subject/>
  <dc:title>Adrian</dc:title>
</cp:coreProperties>
</file>